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93D-C657-412E-AA2B-B42427B4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1EE-87E6-4AEE-97DE-6B730A95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4F1-D80D-4CCC-8B30-91CCA82F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9E9-62F9-49F2-A2F1-B537812E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D482-DFD3-4F4B-8FBD-7127555B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C020-8CC2-43AC-BC86-63A4AE4B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0012-3B87-49D8-A75C-BF375BF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C2F-7413-40A3-B0C2-447AC17D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B43B-495F-48F0-AC55-A38F4BC8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3791-326F-4DC8-B912-65F8B41C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679-34C3-4110-A3B9-5374A32D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A77-B876-400E-81DE-A6A00122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627B-AE58-44B9-A508-A5174B4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3E0E-6B34-430A-8C5B-4E5987F2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B6FB-B7B2-48EC-8369-ED70ECB6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4531-2782-436A-B1F6-3CEEC280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993C-67A1-420B-8B2C-4B89A7ED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9A97-2B5B-4DA3-B0DA-BB9D80C0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6E28-6E09-4876-A845-4CE3206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8E86-CF4F-452F-A6A9-39D133F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78A0-F71C-41A0-A375-AFEEDC6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3B09-727E-498C-B678-8E5B3CF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277-51A1-47FC-8055-A6D54555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2B15-E6FE-4CBA-8B88-6C30A8F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4B62-FC63-4DF3-BDC2-2BEDB85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0BC3-F16F-4417-B943-851F638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CE9C-2FE7-4BFF-9B44-3F2CB5A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AC63-2697-46BD-A66D-25DCA0B5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F241-2DFE-4B06-8244-F4D2FC2E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76E1-7576-4A3D-B042-77BD17B0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D428-C401-45AB-9778-C9BC79C1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8CB8-4324-4EB5-884C-450D858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08AA-B490-4481-BC3D-CC8568F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269-6D31-4201-80E3-AA76A04F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A851-BDA7-430D-A71E-5D08ACF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71E3-F38C-4113-AC7A-5731A920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83E2-5D10-41F2-856A-35354E9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6761-2C1D-41D4-97CD-48C9902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F51C-901F-4E4C-A229-2E12247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4A17-AA07-4D1C-A729-B5D97B2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64C5-C5D7-44F4-A5D9-18FFEF90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CBC6-D5AB-4CED-A7E5-7C6092D3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80AA-28AB-4A7A-8372-495ACE7E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5CFE0-304C-44DF-A72F-0B60A9D6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643-E2F7-4A4D-8A84-9498C892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D175-41FF-48BB-A56F-465FC8B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9E14-0B6D-4D91-B6EB-80A1FAF4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FA3E-3660-440C-BDA8-8252D06A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CE438-A375-4A81-BA94-122C30E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0E01B-F824-440D-8983-76D05733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6738-C9A0-4C35-8F0F-64ECE7A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956E-AF38-42D9-B540-5FE4913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3E89-4F2F-4014-A177-FA48885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BEBB-1785-46E1-A7FD-1291994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7849-8FC3-41C7-8424-1411E6AC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6C6-6670-48A0-B4F4-FA5043D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777E-D712-4450-8C2A-22E8C54A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BC7-6619-4073-A1AF-3610A89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523-F745-458A-BF4D-7EE19F8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97-FA63-4EA3-ABC4-389F719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29B-D862-4AF1-9B55-2584AEF5D8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4338-609D-4167-9FC6-23D9F8B7E5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62C-D9C5-46A5-A34B-88C086380D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3FD1-C17C-4544-8B43-9EF1CFAE5F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07E-E25A-4784-B9BE-0C4C48D7D2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orts and Entertai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onnections and Contrast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 2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837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commer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ccessful sports and entertainment marketing strategies have always appealed to the desire to go out to a special ev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914400" y="3475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914400" y="4038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icket Scalpers – unauthorized ticket sell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racy – is the unauthorized use of an owner’s or creator’s music, movies, or other copyrighted material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Straight Connector 6"/>
          <p:cNvSpPr/>
          <p:nvPr/>
        </p:nvSpPr>
        <p:spPr>
          <a:xfrm>
            <a:off x="304920" y="3200400"/>
            <a:ext cx="84121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mo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duct tie-in – is the use of an ancillary product such as merchandise as promotional tools. (McDonalds happy meal toy relates to a new movi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ross-promotion – is any form of communication through which one industry relies on another industry to promote its products. TV interviews and websites are important cross promotional too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http://www.cbsnews.com/i/tim/2010/06/23/happymeal-shrek_370x278.jpg"/>
          <p:cNvPicPr/>
          <p:nvPr/>
        </p:nvPicPr>
        <p:blipFill>
          <a:blip r:embed="rId1"/>
          <a:stretch/>
        </p:blipFill>
        <p:spPr>
          <a:xfrm>
            <a:off x="2971800" y="437688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ports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sports to market produ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2" descr="http://fussmartial.edublogs.org/files/2008/10/euro_20081.jpg"/>
          <p:cNvPicPr/>
          <p:nvPr/>
        </p:nvPicPr>
        <p:blipFill>
          <a:blip r:embed="rId1"/>
          <a:stretch/>
        </p:blipFill>
        <p:spPr>
          <a:xfrm>
            <a:off x="3200400" y="2209680"/>
            <a:ext cx="28195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Development of Sports and Entertainment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2547720"/>
            <a:ext cx="381024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illiam “Bill” Veeck first to develop sports marketing in the 1940’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http://cdn.bleacherreport.net/images_root/slides/photos/000/233/169/William_Veeck_display_image.jpg?1274477436"/>
          <p:cNvPicPr/>
          <p:nvPr/>
        </p:nvPicPr>
        <p:blipFill>
          <a:blip r:embed="rId1"/>
          <a:stretch/>
        </p:blipFill>
        <p:spPr>
          <a:xfrm>
            <a:off x="1447920" y="4114800"/>
            <a:ext cx="1981080" cy="233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havelshouseofhistory.com/Zukor,%20Adolph.jpg"/>
          <p:cNvPicPr/>
          <p:nvPr/>
        </p:nvPicPr>
        <p:blipFill>
          <a:blip r:embed="rId2"/>
          <a:stretch/>
        </p:blipFill>
        <p:spPr>
          <a:xfrm>
            <a:off x="6095880" y="4137120"/>
            <a:ext cx="1600200" cy="2415960"/>
          </a:xfrm>
          <a:prstGeom prst="rect">
            <a:avLst/>
          </a:prstGeom>
          <a:ln w="0">
            <a:noFill/>
          </a:ln>
        </p:spPr>
      </p:pic>
      <p:sp>
        <p:nvSpPr>
          <p:cNvPr id="237" name="Text Placeholder 4"/>
          <p:cNvSpPr/>
          <p:nvPr/>
        </p:nvSpPr>
        <p:spPr>
          <a:xfrm>
            <a:off x="4952880" y="2819520"/>
            <a:ext cx="3810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dolph Zukor, founder of Paramount Pictur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sum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ople who use produ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http://netcrafted.com/wp-content/uploads/2011/11/consumers.jpg"/>
          <p:cNvPicPr/>
          <p:nvPr/>
        </p:nvPicPr>
        <p:blipFill>
          <a:blip r:embed="rId1"/>
          <a:stretch/>
        </p:blipFill>
        <p:spPr>
          <a:xfrm>
            <a:off x="2133720" y="30481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scretionary Inco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ney left to spend after necessary expenses are paid; and a desire for recre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http://www.buzzle.com/img/articleImages/495461-5410-25.jpg"/>
          <p:cNvPicPr/>
          <p:nvPr/>
        </p:nvPicPr>
        <p:blipFill>
          <a:blip r:embed="rId1"/>
          <a:stretch/>
        </p:blipFill>
        <p:spPr>
          <a:xfrm>
            <a:off x="3124080" y="2637000"/>
            <a:ext cx="28195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Marketing Today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Vendors – sellers of produc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duct – good or service that any for-profit industry sell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 its consumer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P in the Marketing Mix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 marketers consider People to be 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P in the marketing mi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" descr="http://www.luckylabrescue.com/images/j0411828.jpg"/>
          <p:cNvPicPr/>
          <p:nvPr/>
        </p:nvPicPr>
        <p:blipFill>
          <a:blip r:embed="rId1"/>
          <a:stretch/>
        </p:blipFill>
        <p:spPr>
          <a:xfrm>
            <a:off x="2514600" y="3124080"/>
            <a:ext cx="38862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mo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ny form of communication used to persuade people to buy products through advertising, publicity, personal selling or s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152280" y="52974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ew technologies have broadened the scope and reach of marketing messages, and they can be entertainment products themselv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http://extremetrix.com/blog/wp-content/uploads/2011/01/technology.jpg"/>
          <p:cNvPicPr/>
          <p:nvPr/>
        </p:nvPicPr>
        <p:blipFill>
          <a:blip r:embed="rId1"/>
          <a:stretch/>
        </p:blipFill>
        <p:spPr>
          <a:xfrm>
            <a:off x="3048120" y="2438280"/>
            <a:ext cx="3276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du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e Product – main product, include the sports event, movie, stage show, or book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cillary Product – is a product related to or created from the core product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2" descr="http://www.universalorlando.com/Images/PG_v_thumb_3_tcm13-4623.jpg"/>
          <p:cNvPicPr/>
          <p:nvPr/>
        </p:nvPicPr>
        <p:blipFill>
          <a:blip r:embed="rId1"/>
          <a:stretch/>
        </p:blipFill>
        <p:spPr>
          <a:xfrm>
            <a:off x="6248520" y="3505320"/>
            <a:ext cx="2209680" cy="246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http://ecx.images-amazon.com/images/I/51BR3RNVKZL._SL500_AA300_.jpg"/>
          <p:cNvPicPr/>
          <p:nvPr/>
        </p:nvPicPr>
        <p:blipFill>
          <a:blip r:embed="rId2"/>
          <a:stretch/>
        </p:blipFill>
        <p:spPr>
          <a:xfrm rot="296400">
            <a:off x="860040" y="375552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nfl.imageg.net/graphics/product_images/p5918514reg.jpg"/>
          <p:cNvPicPr/>
          <p:nvPr/>
        </p:nvPicPr>
        <p:blipFill>
          <a:blip r:embed="rId3"/>
          <a:stretch/>
        </p:blipFill>
        <p:spPr>
          <a:xfrm rot="20502000">
            <a:off x="3476160" y="3628800"/>
            <a:ext cx="20955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2:21:16Z</dcterms:created>
  <dc:creator>Christina</dc:creator>
  <dc:description/>
  <dc:language>en-US</dc:language>
  <cp:lastModifiedBy>Christina</cp:lastModifiedBy>
  <dcterms:modified xsi:type="dcterms:W3CDTF">2012-02-06T02:42:28Z</dcterms:modified>
  <cp:revision>5</cp:revision>
  <dc:subject/>
  <dc:title>Chapter 2</dc:title>
</cp:coreProperties>
</file>